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CBFF-FF6F-4942-97B4-42D187E5C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B849-9DA2-42FE-9124-DDFEF520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C54A-BF9A-4683-83CB-C32D28E4C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951F-DBFB-4DEF-98BF-E32D9274C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FB36-93D0-4BA0-90D6-D281B945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21F7-97EA-4C4B-AD90-139D9545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B5E4-BF7D-4C73-8B52-1A8AE040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793A-F971-4917-97F5-9589EBD8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F29E-59E7-48B9-ABA3-4AD384F1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EA19-A90E-437F-BCBC-FA087E56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E357-ACAA-49B7-A4E2-430B2331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8B6E-DFCC-4216-A42D-2248B761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77D2-941D-45FB-9736-E9A92828C7B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:\Afonso2020\EBD2020\EBD2020Trim2_Daniel\Daniel alimentação1.jpg"/>
          <p:cNvPicPr/>
          <p:nvPr/>
        </p:nvPicPr>
        <p:blipFill>
          <a:blip r:embed="rId1"/>
          <a:srcRect l="0" t="0" r="26201" b="0"/>
          <a:stretch/>
        </p:blipFill>
        <p:spPr>
          <a:xfrm>
            <a:off x="9360" y="4576680"/>
            <a:ext cx="2833920" cy="2424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108000" y="3268800"/>
            <a:ext cx="6297840" cy="12888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9900cc"/>
                </a:solidFill>
                <a:latin typeface="Arial"/>
              </a:rPr>
              <a:t>2º Trimestre 202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E:\Afonso2020\EBD2020\EBD2020Trim2_Daniel\Daniel fornalha2.jpg"/>
          <p:cNvPicPr/>
          <p:nvPr/>
        </p:nvPicPr>
        <p:blipFill>
          <a:blip r:embed="rId2"/>
          <a:srcRect l="0" t="8624" r="5401" b="0"/>
          <a:stretch/>
        </p:blipFill>
        <p:spPr>
          <a:xfrm>
            <a:off x="5967360" y="-44280"/>
            <a:ext cx="3176640" cy="3332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E:\Afonso2020\EBD2020\EBD2020Trim2_Daniel\Daniel estátua3.jpg"/>
          <p:cNvPicPr/>
          <p:nvPr/>
        </p:nvPicPr>
        <p:blipFill>
          <a:blip r:embed="rId3"/>
          <a:stretch/>
        </p:blipFill>
        <p:spPr>
          <a:xfrm>
            <a:off x="3502080" y="-31680"/>
            <a:ext cx="2489040" cy="3319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E:\Afonso2020\EBD2020\EBD2020Trim2_Daniel\Daniel escrevendo1.jpg"/>
          <p:cNvPicPr/>
          <p:nvPr/>
        </p:nvPicPr>
        <p:blipFill>
          <a:blip r:embed="rId4"/>
          <a:stretch/>
        </p:blipFill>
        <p:spPr>
          <a:xfrm>
            <a:off x="0" y="-44280"/>
            <a:ext cx="3664080" cy="3342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E:\Afonso2020\EBD2020\EBD2020Trim2_Daniel\Daniel cova leões1.jpg"/>
          <p:cNvPicPr/>
          <p:nvPr/>
        </p:nvPicPr>
        <p:blipFill>
          <a:blip r:embed="rId5"/>
          <a:srcRect l="7375" t="12078" r="0" b="0"/>
          <a:stretch/>
        </p:blipFill>
        <p:spPr>
          <a:xfrm>
            <a:off x="2611440" y="4576680"/>
            <a:ext cx="4052880" cy="2475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E:\Afonso2020\EBD2020\EBD2020Trim2_Daniel\Daniel animais1.jpg"/>
          <p:cNvPicPr/>
          <p:nvPr/>
        </p:nvPicPr>
        <p:blipFill>
          <a:blip r:embed="rId6"/>
          <a:srcRect l="6684" t="37123" r="0" b="0"/>
          <a:stretch/>
        </p:blipFill>
        <p:spPr>
          <a:xfrm>
            <a:off x="6189840" y="2882880"/>
            <a:ext cx="2954160" cy="1805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E:\Afonso2020\EBD2020\EBD2020Trim2_Daniel\Daniel orando3.jpg"/>
          <p:cNvPicPr/>
          <p:nvPr/>
        </p:nvPicPr>
        <p:blipFill>
          <a:blip r:embed="rId7"/>
          <a:srcRect l="0" t="423" r="23245" b="0"/>
          <a:stretch/>
        </p:blipFill>
        <p:spPr>
          <a:xfrm>
            <a:off x="6620040" y="4530600"/>
            <a:ext cx="277164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2915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00"/>
                </a:solidFill>
                <a:latin typeface="Arial"/>
              </a:rPr>
              <a:t>I – A VISÃO PROPRIAMENTE  (1ª Par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cc"/>
                </a:solidFill>
                <a:latin typeface="Arial"/>
              </a:rPr>
              <a:t>Daniel 7. 2  Falou Daniel e disse: Eu estava olhando, na minha visão da noite, e eis que os quatro ventos do céu combatiam no mar grande.  3  E quatro animais grandes, diferentes uns dos outros, subiam do mar.  4  O primeiro era como leão e tinha asas de águia; eu olhei até que lhe foram arrancadas as asas, e foi levantado da terra e posto em pé como um homem; e foi-lhe dado um coração de homem.  5  Continuei olhando, e eis aqui o segundo animal, semelhante a um urso, o qual se levantou de um lado, tendo na boca três costelas entre os seus dentes; e foi-lhe dito assim: Levanta-te, devora muita carne.  6  Depois disso, eu continuei olhando, e eis aqui outro, semelhante a um leopardo, e tinha quatro asas de ave nas suas costas; tinha também esse animal quatro cabeças, e foi-lhe dado domínio.  7  Depois disso, eu continuava olhando nas visões da noite, e eis aqui o quarto animal, terrível e espantoso e muito forte, o qual tinha dentes grandes de ferro; ele devorava, e fazia em pedaços, e pisava aos pés o que sobejava; era diferente de todos os animais que apareceram antes dele e tinha dez pontas.  8  Estando eu considerando as pontas, eis que entre elas subiu outra ponta pequena, diante da qual três das pontas primeiras foram arrancadas; e eis que nessa ponta havia  olhos, como olhos de homem, e uma boca que falava grandios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95280" y="691920"/>
            <a:ext cx="82915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00"/>
                </a:solidFill>
                <a:latin typeface="Arial"/>
              </a:rPr>
              <a:t>I – A VISÃO PROPRI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cc"/>
                </a:solidFill>
                <a:latin typeface="Arial"/>
              </a:rPr>
              <a:t>Daniel 7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D:\IGV\Daniel\mar1.jpg"/>
          <p:cNvPicPr/>
          <p:nvPr/>
        </p:nvPicPr>
        <p:blipFill>
          <a:blip r:embed="rId1"/>
          <a:stretch/>
        </p:blipFill>
        <p:spPr>
          <a:xfrm>
            <a:off x="1619280" y="1216080"/>
            <a:ext cx="7524720" cy="5676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D:\IGV\Daniel\leão_alado1.jpg"/>
          <p:cNvPicPr/>
          <p:nvPr/>
        </p:nvPicPr>
        <p:blipFill>
          <a:blip r:embed="rId2"/>
          <a:srcRect l="24602" t="3409" r="21990" b="15410"/>
          <a:stretch/>
        </p:blipFill>
        <p:spPr>
          <a:xfrm>
            <a:off x="2340000" y="5010120"/>
            <a:ext cx="1654200" cy="1882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D:\IGV\Daniel\urso_daniel7-1.png"/>
          <p:cNvPicPr/>
          <p:nvPr/>
        </p:nvPicPr>
        <p:blipFill>
          <a:blip r:embed="rId3"/>
          <a:srcRect l="16290" t="6577" r="15528" b="17747"/>
          <a:stretch/>
        </p:blipFill>
        <p:spPr>
          <a:xfrm>
            <a:off x="3994200" y="4081320"/>
            <a:ext cx="1949400" cy="1622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D:\IGV\Daniel\leopardo_alado1.jpg"/>
          <p:cNvPicPr/>
          <p:nvPr/>
        </p:nvPicPr>
        <p:blipFill>
          <a:blip r:embed="rId4"/>
          <a:srcRect l="19729" t="1520" r="20808" b="8572"/>
          <a:stretch/>
        </p:blipFill>
        <p:spPr>
          <a:xfrm>
            <a:off x="5951520" y="3189240"/>
            <a:ext cx="1811520" cy="2049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D:\IGV\Daniel\animal4_daniel7-2.jpg"/>
          <p:cNvPicPr/>
          <p:nvPr/>
        </p:nvPicPr>
        <p:blipFill>
          <a:blip r:embed="rId5"/>
          <a:srcRect l="12757" t="9705" r="9036" b="0"/>
          <a:stretch/>
        </p:blipFill>
        <p:spPr>
          <a:xfrm>
            <a:off x="6880320" y="1216080"/>
            <a:ext cx="227808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D:\IGV\Daniel\animal4_daniel7-2.jpg"/>
          <p:cNvPicPr/>
          <p:nvPr/>
        </p:nvPicPr>
        <p:blipFill>
          <a:blip r:embed="rId1"/>
          <a:stretch/>
        </p:blipFill>
        <p:spPr>
          <a:xfrm>
            <a:off x="0" y="2471760"/>
            <a:ext cx="5848200" cy="4386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s://www.worldslastchance.com/images/stories/lesson/images_html_2cbfa49d.jpg"/>
          <p:cNvPicPr/>
          <p:nvPr/>
        </p:nvPicPr>
        <p:blipFill>
          <a:blip r:embed="rId2"/>
          <a:srcRect l="6567" t="2904" r="7228" b="0"/>
          <a:stretch/>
        </p:blipFill>
        <p:spPr>
          <a:xfrm>
            <a:off x="5033880" y="806400"/>
            <a:ext cx="4114800" cy="3330720"/>
          </a:xfrm>
          <a:prstGeom prst="rect">
            <a:avLst/>
          </a:prstGeom>
          <a:ln w="0">
            <a:noFill/>
          </a:ln>
        </p:spPr>
      </p:pic>
      <p:sp>
        <p:nvSpPr>
          <p:cNvPr id="76" name="Retângulo 1"/>
          <p:cNvSpPr/>
          <p:nvPr/>
        </p:nvSpPr>
        <p:spPr>
          <a:xfrm>
            <a:off x="324000" y="360360"/>
            <a:ext cx="45720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cc"/>
                </a:solidFill>
                <a:latin typeface="Arial"/>
              </a:rPr>
              <a:t>Dn 7. 8  Estando eu considerando as pontas, eis que entre elas subiu outra ponta pequena, diante da qual três das pontas primeiras foram arrancadas; e eis que nessa ponta havia  olhos, como olhos de homem, e uma boca que falava grandios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80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2400"/>
            </a:br>
            <a:r>
              <a:rPr b="1" lang="pt-BR" sz="2400" spc="-1" strike="noStrike">
                <a:solidFill>
                  <a:srgbClr val="d60093"/>
                </a:solidFill>
                <a:latin typeface="Arial"/>
              </a:rPr>
              <a:t>Lição 8: OS QUATROS ANIMAIS E O TRIUNFO DOS CÉ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00"/>
                </a:solidFill>
                <a:latin typeface="Arial"/>
              </a:rPr>
              <a:t>I – A VISÃO PROPRI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- Em seu sonho, o profeta contempla os ventos soprando sobre o mar grande, num sinal de agitação. Então, ele vê subir do mar quatro animais grandes, “</a:t>
            </a: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diferentes uns dos outr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, referidos por sua ordem até o final do capítulo. Notemos, contudo, que esses animais têm apenas a semelhança de animais, alguns conhecidos, apresentando elementos estranhos, necessários ao simbolismo da vis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quarto, em particular, é “</a:t>
            </a: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diferen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, de aparência e comportamento assustador. O próprio Daniel expressa seu interesse em compreender o seu significado e, especialmente, o dos “</a:t>
            </a: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dez chifr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 e do “</a:t>
            </a: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chifre pequen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 que surgem a partir desse quarto animal.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915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00"/>
                </a:solidFill>
                <a:latin typeface="Arial"/>
              </a:rPr>
              <a:t>I – A VISÃO PROPRIAMENTE  (2ª Par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cc"/>
                </a:solidFill>
                <a:latin typeface="Arial"/>
              </a:rPr>
              <a:t>Daniel 7. 9  Eu continuei olhando, até que foram postos uns tronos, e um ancião de dias se assentou; a sua veste era branca como a neve, e o cabelo da sua cabeça, como a limpa lã; o seu trono, chamas de fogo, e as rodas dele, fogo ardente.  10  Um rio de fogo manava e saía de diante dele; milhares de milhares o serviam, e milhões de milhões estavam diante dele; assentou-se o juízo, e abriram-se os livros.  11  Então, estive olhando, por causa da voz das grandes palavras que provinha da ponta; estive olhando até que o animal foi morto, e o seu corpo, desfeito e entregue para ser queimado pelo fogo.  12  E, quanto aos outros animais, foi-lhes tirado o domínio; todavia, foi-lhes dada prolongação de vida até certo espaço de tempo.  13  Eu estava olhando nas minhas visões da noite, e eis que vinha nas nuvens do céu um como o filho do homem; e dirigiu-se ao ancião de dias, e o fizeram chegar até ele.  14  E foi-lhe dado o domínio, e a honra, e o reino, para que todos os povos, nações e línguas o servissem; o seu domínio é um domínio eterno, que não passará, e o seu reino, o único que não será destruído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80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2400"/>
            </a:br>
            <a:r>
              <a:rPr b="1" lang="pt-BR" sz="2400" spc="-1" strike="noStrike">
                <a:solidFill>
                  <a:srgbClr val="d60093"/>
                </a:solidFill>
                <a:latin typeface="Arial"/>
              </a:rPr>
              <a:t>Lição 8: OS QUATROS ANIMAIS E O TRIUNFO DOS CÉ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00"/>
                </a:solidFill>
                <a:latin typeface="Arial"/>
              </a:rPr>
              <a:t>I – A VISÃO PROPRI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3- Esta visão de Daniel apresenta uma segunda parte que apresenta agora a corte celestial, vendo o próprio Deus numa descrição do Seu tribunal se estabelecendo para julgamento: “</a:t>
            </a:r>
            <a:r>
              <a:rPr b="0" lang="pt-BR" sz="2200" spc="-1" strike="noStrike">
                <a:solidFill>
                  <a:srgbClr val="0000cc"/>
                </a:solidFill>
                <a:latin typeface="Arial"/>
              </a:rPr>
              <a:t>assentou-se o juízo, e abriram-se os livro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”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que se segue, então, é a sentença sendo proferida e executada contra os réus: o quarto animal “</a:t>
            </a:r>
            <a:r>
              <a:rPr b="0" lang="pt-BR" sz="2200" spc="-1" strike="noStrike">
                <a:solidFill>
                  <a:srgbClr val="0000cc"/>
                </a:solidFill>
                <a:latin typeface="Arial"/>
              </a:rPr>
              <a:t>é morto, e o seu corpo desfeito, e entregue para ser queimado pelo fog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”. Quanto aos demais, “</a:t>
            </a:r>
            <a:r>
              <a:rPr b="0" lang="pt-BR" sz="2200" spc="-1" strike="noStrike">
                <a:solidFill>
                  <a:srgbClr val="0000cc"/>
                </a:solidFill>
                <a:latin typeface="Arial"/>
              </a:rPr>
              <a:t>foi-lhes tirado o domíni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”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, por último, “</a:t>
            </a:r>
            <a:r>
              <a:rPr b="0" lang="pt-BR" sz="2200" spc="-1" strike="noStrike">
                <a:solidFill>
                  <a:srgbClr val="0000cc"/>
                </a:solidFill>
                <a:latin typeface="Arial"/>
              </a:rPr>
              <a:t>um como o filho do homem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”, que também comparece ante o supremo juiz, “</a:t>
            </a:r>
            <a:r>
              <a:rPr b="0" lang="pt-BR" sz="2200" spc="-1" strike="noStrike">
                <a:solidFill>
                  <a:srgbClr val="0000cc"/>
                </a:solidFill>
                <a:latin typeface="Arial"/>
              </a:rPr>
              <a:t>E foi-lhe dado o domínio, e a honra, e o reino, para que todos os povos, nações e línguas o servissem; o seu domínio é um domínio eterno, que não passará, e o seu reino tal, que não será destruíd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4360" y="836640"/>
            <a:ext cx="79912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00"/>
                </a:solidFill>
                <a:latin typeface="Arial"/>
              </a:rPr>
              <a:t>II– OS QUATRO ANIMAIS, OS DEZ CHIFRES E O CHIFRE PEQU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Daniel   7.  15-1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15  Quanto a mim, Daniel, o meu espírito foi abatido dentro do corpo, e as visões da minha cabeça me espantavam.  16  Cheguei-me a um dos que estavam perto e pedi-lhe a verdade acerca de tudo isso. E ele me disse e fez-me saber a interpretação das coisas.   17  Estes grandes animais, que são quatro, são quatro reis, que se levantarão da terra.   18  Mas os santos do Altíssimo receberão o reino e possuirão o reino para todo o sempre e de eternidade em eternid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2400"/>
            </a:br>
            <a:r>
              <a:rPr b="1" lang="pt-BR" sz="2400" spc="-1" strike="noStrike">
                <a:solidFill>
                  <a:srgbClr val="d60093"/>
                </a:solidFill>
                <a:latin typeface="Arial"/>
              </a:rPr>
              <a:t>Lição 8: OS QUATROS ANIMAIS E O TRIUNFO DOS CÉ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00"/>
                </a:solidFill>
                <a:latin typeface="Arial"/>
              </a:rPr>
              <a:t>II– OS QUATRO ANIMAIS, OS DEZ CHIFRES E O CHIFRE </a:t>
            </a:r>
            <a:r>
              <a:rPr b="1" lang="pt-BR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6600"/>
                </a:solidFill>
                <a:latin typeface="Arial"/>
              </a:rPr>
              <a:t>PEQU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- No restante do capítulo  temos a interpretação dos elementos principais do son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as partes da estátua no sonho do rei Nabucodonosor, o sentido dos quatros animais é o mesmo: “</a:t>
            </a: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estes grandes animais, que são quatro, são quatro reis, que se levantarão da terr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s, logo, o anjo contrapõe a esses reinos transitórios o fato mais importante de que “</a:t>
            </a: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os santos do Altíssimo receberão o reino, e o possuirão para todo o sempre, e de eternidade em eterni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4000" y="836640"/>
            <a:ext cx="8064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6600"/>
                </a:solidFill>
                <a:latin typeface="Arial"/>
              </a:rPr>
              <a:t>II– OS QUATRO ANIMAIS, OS DEZ CHIFRES E O CHIFRE PEQUEN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Daniel   7.  19-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cc"/>
                </a:solidFill>
                <a:latin typeface="Arial"/>
              </a:rPr>
              <a:t>19  Então, tive desejo de conhecer a verdade a respeito do quarto animal, que era diferente de todos os outros, muito terrível, cujos dentes eram de ferro, e as suas unhas, de metal; que devorava, fazia em pedaços e pisava aos pés o que sobrava;  20  e também das dez pontas que tinha na cabeça e da outra que subia, de diante da qual caíram três, daquela ponta, digo, que tinha olhos, e uma boca que falava grandiosamente, e cuja aparência era mais firme do que o das suas companheiras.  21  Eu olhava, e eis que essa ponta fazia guerra contra os santos e os vencia. 22 Até que veio o ancião de dias, e foi dado o juízo aos santos do Altíssimo; e chegou o tempo em que os santos possuíram o rein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4000" y="1196640"/>
            <a:ext cx="8064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6600"/>
                </a:solidFill>
                <a:latin typeface="Arial"/>
              </a:rPr>
              <a:t>II– OS QUATRO ANIMAIS, OS DEZ CHIFRES E O CHIFRE PEQUE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Daniel   7.  23-2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23  Disse assim: O quarto animal será o quarto reino na terra, o qual será diferente de todos os reinos; e devorará toda a terra, e a pisará aos pés, e a fará em pedaços.  24  E, quanto às dez pontas, daquele mesmo reino se levantarão dez reis; e depois deles se levantará outro, o qual será diferente dos primeiros e abaterá a três reis.  25  E proferirá palavras contra o Altíssimo, e destruirá os santos do Altíssimo, e cuidará em mudar os tempos e a lei; e eles serão entregues nas suas mãos por um tempo, e tempos, e metade de um tem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83628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cc"/>
                </a:solidFill>
                <a:latin typeface="Arial"/>
              </a:rPr>
              <a:t>ESCOLA  BÍBLICA  DOMINICAL</a:t>
            </a:r>
            <a:br>
              <a:rPr sz="4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55640" y="4869000"/>
            <a:ext cx="756144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ções para as Classes de Jovens e Adultos da EB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301680" y="2897280"/>
            <a:ext cx="8424720" cy="14698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4800"/>
            </a:br>
            <a:r>
              <a:rPr b="1" lang="pt-BR" sz="3600" spc="-1" strike="noStrike">
                <a:solidFill>
                  <a:srgbClr val="9900cc"/>
                </a:solidFill>
                <a:latin typeface="Arial"/>
              </a:rPr>
              <a:t>2º Trimestre 20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2400"/>
            </a:br>
            <a:r>
              <a:rPr b="1" lang="pt-BR" sz="2400" spc="-1" strike="noStrike">
                <a:solidFill>
                  <a:srgbClr val="d60093"/>
                </a:solidFill>
                <a:latin typeface="Arial"/>
              </a:rPr>
              <a:t>Lição 8: OS QUATROS ANIMAIS E O TRIUNFO DOS CÉ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6600"/>
                </a:solidFill>
                <a:latin typeface="Arial"/>
              </a:rPr>
              <a:t>II– OS QUATRO ANIMAIS, OS DEZ CHIFRES E O CHIFRE PEQUE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- Quanto aos dez chifres do quarto animal, encontramos a mesma correspondência nos dedos dos pés da estátua, uma vez que o próprio anjo explica: “</a:t>
            </a: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quanto aos dez chifres, daquele mesmo reino se levantarão dez re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omente o chifre pequeno representa um elemento novo, este chifre caracteriza um “desenvolvimento” final do governo desse quinto reino dos chifres, um governo que “</a:t>
            </a: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será diferente dos primeiros, e abaterá três re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 e cujo aspecto mais singular será o de se opor contra Deus e aos Seus sa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4000" y="907560"/>
            <a:ext cx="8064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III – O Juízo Estabelecido e o Filho do Ho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Daniel   7.  26-2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26  Mas o juízo estabelecer-se-á, e eles tirarão o seu domínio, para o destruir e para o desfazer até ao f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27  E o reino, e o domínio, e a majestade dos reinos debaixo de todo o céu serão dados ao povo dos santos do Altíssimo; o seu reino será um reino eterno, e todos os domínios o servirão e lhe obedecer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28  Aqui findou a visão. Quanto a mim, Daniel, os meus pensamentos muito me espantavam, e mudou-se em mim o meu semblante; mas guardei essas coisas no meu cor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2400"/>
            </a:br>
            <a:r>
              <a:rPr b="1" lang="pt-BR" sz="2400" spc="-1" strike="noStrike">
                <a:solidFill>
                  <a:srgbClr val="d60093"/>
                </a:solidFill>
                <a:latin typeface="Arial"/>
              </a:rPr>
              <a:t>Lição 8: OS QUATROS ANIMAIS E O TRIUNFO DOS CÉ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6600"/>
                </a:solidFill>
                <a:latin typeface="Arial"/>
              </a:rPr>
              <a:t>III – O Juízo Estabelecido e o Filho do Hom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- O governo tirânico e profano representado pelo chifre pequeno é o último estágio da sucessão dos reinos deste mundo. Mas, finalmente, chegará a hora do juízo e Deus o entregará para ser destruído, juntamente com os demais rei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umprir-se-á então o mesmo propósito revelado no sonho de Nabucodonosor, onde a pedra torna-se um grande monte que enche toda a terra; no caso, aqui o reino é dado, ao próprio Senhor Jesus, o Filho do homem e aos santos do Altíssimo e o poder nunca mais lhes será tirado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2400"/>
            </a:br>
            <a:r>
              <a:rPr b="1" lang="pt-BR" sz="2400" spc="-1" strike="noStrike">
                <a:solidFill>
                  <a:srgbClr val="d60093"/>
                </a:solidFill>
                <a:latin typeface="Arial"/>
              </a:rPr>
              <a:t>Lição 8: OS QUATROS ANIMAIS E O TRIUNFO DOS CÉ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b050"/>
                </a:solidFill>
                <a:latin typeface="Arial"/>
              </a:rPr>
              <a:t>CONCLU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mbora semelhante ao sonho do rei Nabucodonosor, a visão de Daniel acrescenta o detalhe importante de que a sucessão dos reinos neste mundo, em seu momento final, representa um futuro sombrio para o povo de Deus; mas, ao mesmo tempo, que este povo receberá grande livramento, pois seus inimigos serão aniquilados e o reino dos céus nunca lhes poderá ser tir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2400"/>
            </a:br>
            <a:r>
              <a:rPr b="1" lang="pt-BR" sz="2400" spc="-1" strike="noStrike">
                <a:solidFill>
                  <a:srgbClr val="d60093"/>
                </a:solidFill>
                <a:latin typeface="Arial"/>
              </a:rPr>
              <a:t>Lição 8: OS QUATROS ANIMAIS E O TRIUNFO DOS CÉ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ESBOÇ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 – A VISÃO PROPRI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vv. 1-14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I – OS QUATRO ANIMAIS, OS DEZ CHIFRES E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CHIFRE PEQUEN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vv. 15-25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II – O JUÍZO ESTABELECIDO E O FILH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OMEM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vv. 26-28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clu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064720" cy="14256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2400"/>
            </a:br>
            <a:r>
              <a:rPr b="1" lang="pt-BR" sz="2400" spc="-1" strike="noStrike">
                <a:solidFill>
                  <a:srgbClr val="d60093"/>
                </a:solidFill>
                <a:latin typeface="Arial"/>
              </a:rPr>
              <a:t>Lição 8: OS QUATROS ANIMAIS E O TRIUNFO DOS CÉ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2133360"/>
            <a:ext cx="78487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TEXTO ÁUREO: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E o reino, e o domínio, e a majestade dos reinos debaixo de todo o céu serão dados ao povo dos santos do Altíssimo; o seu reino será um reino eterno, e todos os domínios o servirão, e lhe obedecerão.” </a:t>
            </a:r>
            <a:r>
              <a:rPr b="0" lang="pt-BR" sz="3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pt-BR" sz="3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cc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Dn 7.27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547640" y="3499920"/>
            <a:ext cx="6297840" cy="128916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9900cc"/>
                </a:solidFill>
                <a:latin typeface="Arial"/>
              </a:rPr>
              <a:t>2º Trimestre 202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E:\Afonso2020\EBD2020\EBD2020Trim2_Daniel\Daniel escrevendo1.jpg"/>
          <p:cNvPicPr/>
          <p:nvPr/>
        </p:nvPicPr>
        <p:blipFill>
          <a:blip r:embed="rId1"/>
          <a:stretch/>
        </p:blipFill>
        <p:spPr>
          <a:xfrm>
            <a:off x="0" y="-44280"/>
            <a:ext cx="3664080" cy="33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150480"/>
            <a:ext cx="8424720" cy="11905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4800"/>
            </a:br>
            <a:r>
              <a:rPr b="1" lang="pt-BR" sz="3600" spc="-1" strike="noStrike">
                <a:solidFill>
                  <a:srgbClr val="9900cc"/>
                </a:solidFill>
                <a:latin typeface="Arial"/>
              </a:rPr>
              <a:t>2º Trimestre 20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32920" y="2565360"/>
            <a:ext cx="50403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d60093"/>
                </a:solidFill>
                <a:latin typeface="Arial"/>
              </a:rPr>
              <a:t>Lição 8: OS QUATROS ANIM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d60093"/>
                </a:solidFill>
                <a:latin typeface="Arial"/>
              </a:rPr>
              <a:t>              </a:t>
            </a:r>
            <a:r>
              <a:rPr b="1" lang="pt-BR" sz="2400" spc="-1" strike="noStrike">
                <a:solidFill>
                  <a:srgbClr val="d60093"/>
                </a:solidFill>
                <a:latin typeface="Arial"/>
              </a:rPr>
              <a:t>E O TRIUNFO DOS CÉ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692360" y="4797360"/>
            <a:ext cx="212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Arial"/>
              </a:rPr>
              <a:t>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Arial"/>
              </a:rPr>
              <a:t>24 Maio 202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E:\Afonso2020\EBD2020\EBD2020Trim2_Daniel\daniel-7-o-sonho.jpg"/>
          <p:cNvPicPr/>
          <p:nvPr/>
        </p:nvPicPr>
        <p:blipFill>
          <a:blip r:embed="rId1"/>
          <a:srcRect l="0" t="5771" r="2618" b="0"/>
          <a:stretch/>
        </p:blipFill>
        <p:spPr>
          <a:xfrm>
            <a:off x="5557680" y="1989000"/>
            <a:ext cx="35863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2400"/>
            </a:br>
            <a:r>
              <a:rPr b="1" lang="pt-BR" sz="2400" spc="-1" strike="noStrike">
                <a:solidFill>
                  <a:srgbClr val="d60093"/>
                </a:solidFill>
                <a:latin typeface="Arial"/>
              </a:rPr>
              <a:t>Lição 8: OS QUATROS ANIMAIS E O TRIUNFO DOS CÉ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8000"/>
                </a:solidFill>
                <a:latin typeface="Arial"/>
              </a:rPr>
              <a:t>LEITURA  BÍBLICA  EM  CLAS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cc"/>
                </a:solidFill>
                <a:latin typeface="Arial"/>
              </a:rPr>
              <a:t>Daniel  7. 1-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064720" cy="14256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2400"/>
            </a:br>
            <a:r>
              <a:rPr b="1" lang="pt-BR" sz="2400" spc="-1" strike="noStrike">
                <a:solidFill>
                  <a:srgbClr val="d60093"/>
                </a:solidFill>
                <a:latin typeface="Arial"/>
              </a:rPr>
              <a:t>Lição 8: OS QUATROS ANIMAIS E O TRIUNFO DOS CÉ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640" y="2133360"/>
            <a:ext cx="78487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TEXTO ÁUREO: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E o reino, e o domínio, e a majestade dos reinos debaixo de todo o céu serão dados ao povo dos santos do Altíssimo; o seu reino será um reino eterno, e todos os domínios o servirão, e lhe obedecerão.” </a:t>
            </a:r>
            <a:r>
              <a:rPr b="0" lang="pt-BR" sz="3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pt-BR" sz="3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cc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Dn 7.27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2400"/>
            </a:br>
            <a:r>
              <a:rPr b="1" lang="pt-BR" sz="2400" spc="-1" strike="noStrike">
                <a:solidFill>
                  <a:srgbClr val="d60093"/>
                </a:solidFill>
                <a:latin typeface="Arial"/>
              </a:rPr>
              <a:t>Lição 8: OS QUATROS ANIMAIS E O TRIUNFO DOS CÉ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ESBOÇ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 – A VISÃO PROPRI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vv. 1-14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I – OS QUATRO ANIMAIS, OS DEZ CHIFRES E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CHIFRE PEQUEN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vv. 15-25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II – O JUÍZO ESTABELECIDO E O FILH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OMEM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vv. 26-28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clu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2400"/>
            </a:br>
            <a:r>
              <a:rPr b="1" lang="pt-BR" sz="2400" spc="-1" strike="noStrike">
                <a:solidFill>
                  <a:srgbClr val="d60093"/>
                </a:solidFill>
                <a:latin typeface="Arial"/>
              </a:rPr>
              <a:t>Lição 8: OS QUATROS ANIMAIS E O TRIUNFO DOS CÉ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15920"/>
            <a:ext cx="8218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b050"/>
                </a:solidFill>
                <a:latin typeface="Arial"/>
              </a:rPr>
              <a:t>Introdu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partir do presente capítulo é que o livro muda o seu estilo de história para profecia. Como esta passagem já tem sido estudada em diferentes ocasiões e num contexto escatológico mais amplo, aqui propomos fazer uma análise mais limitada ao texto de Dani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4000" y="1988640"/>
            <a:ext cx="784836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b050"/>
                </a:solidFill>
                <a:latin typeface="Arial"/>
              </a:rPr>
              <a:t>Introdu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Daniel 7. 1  No primeiro ano de Belsazar, rei de Babilônia, teve Daniel, na sua cama, um sonho e visões da sua cabeça; escreveu logo o sonho e relatou a suma das cois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06524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2400"/>
            </a:br>
            <a:r>
              <a:rPr b="1" lang="pt-BR" sz="2400" spc="-1" strike="noStrike">
                <a:solidFill>
                  <a:srgbClr val="d60093"/>
                </a:solidFill>
                <a:latin typeface="Arial"/>
              </a:rPr>
              <a:t>Lição 8: OS QUATROS ANIMAIS E O TRIUNFO DOS CÉ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00"/>
                </a:solidFill>
                <a:latin typeface="Arial"/>
              </a:rPr>
              <a:t>I – A VISÃO PROPRI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1- Daniel usa as palavras “sonho” e “visões da cabeça” para descrever o que ele viu. Não sabemos se esta visão é uma resposta do céu a alguma indagação do profeta, mas é certo que ele logo entendeu tratar-se de uma revelação que apresenta vários elementos enigmáticos, que o próprio Daniel não compreendeu, até que um ser celestial, presente no mesmo sonho, lhe explicou todas essas cois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06:32:09Z</dcterms:created>
  <dc:creator>ASSEMBLEIAS DE DEUS</dc:creator>
  <dc:description/>
  <dc:language>en-US</dc:language>
  <cp:lastModifiedBy>I.G.V</cp:lastModifiedBy>
  <dcterms:modified xsi:type="dcterms:W3CDTF">2020-05-20T00:05:53Z</dcterms:modified>
  <cp:revision>276</cp:revision>
  <dc:subject/>
  <dc:title>Slide 1</dc:title>
</cp:coreProperties>
</file>